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7EEE-EEC9-42D4-9955-570B18129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719B-B8D7-40B9-977A-99B40D423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81CD-CEFC-4071-98A2-5770DDABA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379-52C4-4896-99E2-A9947ACF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038-C903-4085-8A23-79195FC8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46B-620C-423A-9664-1F30E1EF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9C0-8C52-4EC2-A2D5-AE77A9E7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3A8-84FB-45E3-8799-81B7632C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BEE-56AE-45B2-B414-EA2FAD8C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C92-B084-4756-A28A-172B5966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AD7-9121-43A1-86ED-AD9FE98A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B64-8364-425C-A359-4E8222CB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1E2-1473-40CE-ACC0-A5D07C77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1CF-E0B5-493A-889A-DD54FF52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40D-A53E-404E-850E-531A7666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3F3B-3690-4702-A5BB-F340ACD02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Routers-Cisco 3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394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A/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WIC-2A_S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WIC-2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B-S/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WIC-4B-S_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ES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WIC-4ESW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WIC-4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WIC-4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WIC-4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8A/S-2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WIC-8A_S-232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ADSLI-B/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WIC-ADSLI-B_S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-1A-OC3-P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NM-1A-OC3-POM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E-WAE-502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NME-WAE-502-K9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SM-Blank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D-ES2-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SM-D-ES2-48.emf"/>
          <p:cNvPicPr/>
          <p:nvPr/>
        </p:nvPicPr>
        <p:blipFill>
          <a:blip r:embed="rId1"/>
          <a:stretch/>
        </p:blipFill>
        <p:spPr>
          <a:xfrm>
            <a:off x="4102200" y="3559320"/>
            <a:ext cx="9396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ES3-24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SM-ES3-24P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NM-ADPT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SM-NM-ADPTR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SRE-900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SM-SRE-900-K9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IC2-4FX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VIC2-4FXO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WIC2-1MFT-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VWIC2-1MFT-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392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392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392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392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394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394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394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7T17:46:37Z</dcterms:modified>
  <cp:revision>5</cp:revision>
  <dc:subject/>
  <dc:title>Title Slide</dc:title>
</cp:coreProperties>
</file>